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07B9C1-6077-4A82-B9C0-03559B179993}"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94DCD8-1B3C-460A-B90B-5C806B6C459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997776-F7FB-4A8A-B2FB-3218795C2D3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94C7-7CEA-4F11-9EB3-FC009E1F220F}"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3BE0CB-E862-454D-9DB5-B9109D149D57}"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A994-4F82-43B2-BBCE-5941EEEF997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AB47-BAD9-4310-83EE-1E6333B1486F}"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2E1C-A3DD-494C-9960-3AAEA1C5EBA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0B3E-D242-4424-A5FE-413A9E407E1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6EF9-DE29-40E5-8C5C-A863FFF4A83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D820-1E72-4915-AC25-8E7B6BD96BD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9BFE876-06C2-4674-BD97-A77FBF236AD4}"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59B1-9B54-4E7D-9B4F-10CFA36423E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BCBDB18-0C37-4623-82CC-CFE8DF69FE1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BF13F-5159-4EBA-ADE3-7EFDC21DC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E3452-122A-45FA-8F2E-E3B49E235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AC8B8-EF23-4D59-9C65-7E78A84FD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F02C2-CF3C-43A7-86C0-FB3B08955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CA900-89A3-4D23-847A-054CFB438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88AA7-B9BE-45DE-9822-385693BFC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2822C-BB4B-4B02-B6FF-3250A32B0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A72FB-E95B-4B37-BEFB-C2CDA89AA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93A67-60DD-48D6-80DF-B3D68EFC6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E834F-BE68-47DA-AD35-8095BA7AC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844EC-567C-4ECC-A3DC-F7490E832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BAFEE-F8C7-4F2D-A03B-261B87BD1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0FA9-D5FC-4BFD-BD5C-B7741949D7D7}" type="datetime">
              <a:rPr b="0" lang="en-US" sz="1200" spc="-1" strike="noStrike">
                <a:solidFill>
                  <a:srgbClr val="898989"/>
                </a:solidFill>
                <a:latin typeface="Calibri"/>
              </a:rPr>
              <a:t>07/29/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D669-1AE3-4A7D-883D-990581815AE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6783-C30D-44D5-8E0C-5189AF5F651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C98B-E2D2-4224-B933-0B1E0C8C70D9}"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02DD-33E4-44FA-BE25-00F9C84C8E7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270E-EACB-4D57-AB1E-64FCA534152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0B03-4344-444B-BB73-B2337493657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8D0F-3348-4458-B6FB-EC73AAE1C3C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1F19-EF9B-4F17-AFD7-5FE02006056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2831-1882-437B-A729-272B0360C3B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F00D-7906-43A7-A110-156414E7768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8269-A152-4EF7-8514-F98E68F4083B}"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035D-CED7-4583-ACDC-3E5EAFB66F9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2ED4-2E0D-4329-8766-EDC360C998A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D3F8-B96D-47B4-8958-238F510AA15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F8E7-2D29-4560-8FD5-25FE9F19AC4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870E-6EAE-428A-830A-39323A95A41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F4CBA-D72F-4F56-8A61-0D1243184E6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2BA4-1AA5-486A-8083-6322EF4F646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E504-3D40-4B6B-98CE-CF71CA85A7F5}"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45948-5340-4FF9-BA81-3BAEA1A022A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B6423-E712-4DA7-BE07-E0B26EDA052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6497-105C-4E72-8673-3F67D4B9839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